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967-DD9B-4DB1-9674-EB5ADA14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2F7-3167-43A1-9630-A4A74901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EA0-C298-43FE-AE76-0DFA1DDD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99A-A164-427B-9997-85B17DB7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116-47E6-4DF7-B716-822D77DF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5E02-A8AC-43CE-BE30-68E8505C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23E-6B91-4875-9590-E8C814FC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A4C-48EE-458A-8AAA-C60E1842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E59-F069-4687-8460-192676B3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767-2F6B-4E54-8782-D0AB9C7D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B2E-433E-4613-A70E-05F05036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14F-7EC1-4D98-9072-290B31D3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4DF1-AD62-44C8-BF6E-0917C8C64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eb.mit.edu/invent/iow/baer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1676520"/>
            <a:ext cx="7010280" cy="1676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596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ideo Gam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50292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ward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3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Horizontal rectangle video game screenshot that is a representation of a game of table tennis."/>
          <p:cNvPicPr/>
          <p:nvPr/>
        </p:nvPicPr>
        <p:blipFill>
          <a:blip r:embed="rId1"/>
          <a:stretch/>
        </p:blipFill>
        <p:spPr>
          <a:xfrm>
            <a:off x="2895480" y="22860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 rot="10800000">
            <a:off x="6400440" y="2661120"/>
            <a:ext cx="25909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kipedi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8/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Po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Photograph of a dedicated video game console with two input devices connected to it with cables."/>
          <p:cNvPicPr/>
          <p:nvPr/>
        </p:nvPicPr>
        <p:blipFill>
          <a:blip r:embed="rId2"/>
          <a:stretch/>
        </p:blipFill>
        <p:spPr>
          <a:xfrm>
            <a:off x="3733920" y="4572000"/>
            <a:ext cx="2590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295280" y="2819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57200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mak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3/11 www.freeplaymusic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06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Baer"/>
          <p:cNvPicPr/>
          <p:nvPr/>
        </p:nvPicPr>
        <p:blipFill>
          <a:blip r:embed="rId1"/>
          <a:srcRect l="8325" t="5266" r="11124" b="5266"/>
          <a:stretch/>
        </p:blipFill>
        <p:spPr>
          <a:xfrm>
            <a:off x="1143000" y="2895480"/>
            <a:ext cx="214488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Baer"/>
          <p:cNvPicPr/>
          <p:nvPr/>
        </p:nvPicPr>
        <p:blipFill>
          <a:blip r:embed="rId2"/>
          <a:stretch/>
        </p:blipFill>
        <p:spPr>
          <a:xfrm>
            <a:off x="1143000" y="1066680"/>
            <a:ext cx="6781680" cy="1828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38480" y="4343400"/>
            <a:ext cx="4648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con Ml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8/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ba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Video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ook some groundbreaking creativity innovation and exceptional vision for this multi-billion-dollar business to come into exis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67 pong was inv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first home video game console in 1972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world’s fastest growing and most popular forms of entertain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light guns (allowed you to shoot at  the T.V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sole’s was named Magnav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alph Ba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lph Baer was born in Ger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lph Baer was born on March 8,192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lph Baer was often called father of home video g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light gu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lph Baer was evolved in a multi-billion-dollar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lph Baer operated three radio service stores in New York City from 1940-1943,before beginning drafting in to the U.S. Army to serve in WW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4:09Z</dcterms:created>
  <dc:creator>install</dc:creator>
  <dc:description/>
  <dc:language>en-US</dc:language>
  <cp:lastModifiedBy>install</cp:lastModifiedBy>
  <dcterms:modified xsi:type="dcterms:W3CDTF">2011-03-11T18:37:46Z</dcterms:modified>
  <cp:revision>13</cp:revision>
  <dc:subject/>
  <dc:title>Slide 1</dc:title>
</cp:coreProperties>
</file>